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B88C-1C19-498A-AF32-CD99EC3E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D37A-0558-4945-9C98-C9E4EC45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945E-DC58-44E3-B51D-6C93B254F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3F02-42F9-4B00-A876-58B21B38B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EC4B-74AB-4188-B6C2-A6F92D0C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D19E-CAB8-47A2-A47A-CF695108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32CF-72DC-4257-BF43-A719539E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0599-1412-4DF3-849A-B7C39BA2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1BE4-6B18-49DA-B47C-79485DA6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DB71-E12E-4555-BD73-2B5EE2BD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3EF3-CB55-4A44-891A-C78D2612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F307-55D4-467E-9FEB-CCE5985C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F1EA00-C86C-49BD-9001-8B80664B8FD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3e_Figure 3.1.jpg"/>
          <p:cNvPicPr/>
          <p:nvPr/>
        </p:nvPicPr>
        <p:blipFill>
          <a:blip r:embed="rId1"/>
          <a:stretch/>
        </p:blipFill>
        <p:spPr>
          <a:xfrm>
            <a:off x="712800" y="0"/>
            <a:ext cx="77180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avidson_13e_Figure 3.2.jpg"/>
          <p:cNvPicPr/>
          <p:nvPr/>
        </p:nvPicPr>
        <p:blipFill>
          <a:blip r:embed="rId1"/>
          <a:stretch/>
        </p:blipFill>
        <p:spPr>
          <a:xfrm>
            <a:off x="2505240" y="0"/>
            <a:ext cx="413208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avidson_13e_Box_Figure 3.1.jpg"/>
          <p:cNvPicPr/>
          <p:nvPr/>
        </p:nvPicPr>
        <p:blipFill>
          <a:blip r:embed="rId1"/>
          <a:stretch/>
        </p:blipFill>
        <p:spPr>
          <a:xfrm>
            <a:off x="679320" y="0"/>
            <a:ext cx="7784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  <Company>C &amp; M Digitals (P) Ltd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9:27:48Z</dcterms:created>
  <dc:creator>Administrator</dc:creator>
  <dc:description/>
  <dc:language>en-US</dc:language>
  <cp:lastModifiedBy>Administrator</cp:lastModifiedBy>
  <dcterms:modified xsi:type="dcterms:W3CDTF">2012-04-04T09:28:02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3</vt:r8>
  </property>
</Properties>
</file>